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813-EE57-4951-8B45-31B78399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47B-2BBE-4C82-93D5-20800C94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FB0-4612-44C9-A862-37A972D8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A60-A5AF-4E75-B003-C3F1DF02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4E9-2FC5-491B-B37D-E64EE9FC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4A5-C821-4930-B29A-99094F99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C67-1621-4C23-96FC-9E123896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4AF-1E0A-480E-8C39-B21FBB93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A03-82B9-44D1-81CA-208EC8D0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083-9EBB-4463-890E-750BB769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27F-FFDA-4D16-9E70-CB47708A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18A-D8FF-4BA2-9A9E-4203787E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35E3-4490-45A5-A070-3DACD1F9A8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40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400800" y="4724280"/>
            <a:ext cx="27432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AAMI 9P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84360" y="0"/>
            <a:ext cx="40197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pperplate Gothic Bold"/>
              </a:rPr>
              <a:t>MICHEAL LONG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476360" y="3160800"/>
            <a:ext cx="5543640" cy="15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MICHEAL LONG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50920" y="189000"/>
            <a:ext cx="47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SSEND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564000" cy="554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755640" y="189000"/>
            <a:ext cx="777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Long was a pioneer against racial vilificat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89200" y="1341000"/>
            <a:ext cx="5554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r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01.10.1969, Darwin, Austral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ruited from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t Mary’s (NT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EFC G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s. West Coast, Round 1, 198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t EFC Gam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s. Hawthorn, Preliminary Final, 200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C Games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0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C Goals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43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miership player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93, 2000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C Captai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99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FC Vice Captain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1996, 1998-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3564000" cy="468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692360" y="260280"/>
            <a:ext cx="54957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Michael Long – The Fac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417080" cy="525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340000" y="5950080"/>
            <a:ext cx="381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EN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2:03:27Z</dcterms:created>
  <dc:creator>Reservoir District Secondary College</dc:creator>
  <dc:description/>
  <dc:language>en-US</dc:language>
  <cp:lastModifiedBy>Reservoir District Secondary College</cp:lastModifiedBy>
  <dcterms:modified xsi:type="dcterms:W3CDTF">2008-08-07T06:20:45Z</dcterms:modified>
  <cp:revision>4</cp:revision>
  <dc:subject/>
  <dc:title>Slide 1</dc:title>
</cp:coreProperties>
</file>